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261-EA6B-42B0-8C9D-4CD2620C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E77-80E3-4487-8DBB-430FDE7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A52-0FF9-41C1-B47E-B08CEC88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A1E-3F72-42ED-9EF0-E8980D34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F5F-C190-4956-8A01-6262682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97B-3604-4208-90E7-93DECB5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D6A-E832-40EE-8432-C02EE956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24D-8318-4738-A1DC-3C7CEA2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BC9-58AD-40C1-B893-EAA582E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3AE-02E0-4432-B0E7-9A8211B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9BE-CB4D-4DF6-A131-621EE98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23E-AB72-4C58-A3A9-31653EC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89A-89A5-445A-9611-74B809388CB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 Imagen" descr="concepto.jpg"/>
          <p:cNvPicPr/>
          <p:nvPr/>
        </p:nvPicPr>
        <p:blipFill>
          <a:blip r:embed="rId1"/>
          <a:stretch/>
        </p:blipFill>
        <p:spPr>
          <a:xfrm>
            <a:off x="84240" y="217440"/>
            <a:ext cx="884556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43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0 CuadroTexto"/>
            <p:cNvSpPr/>
            <p:nvPr/>
          </p:nvSpPr>
          <p:spPr>
            <a:xfrm>
              <a:off x="2928960" y="2500200"/>
              <a:ext cx="55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No existen datos históric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11 CuadroTexto"/>
            <p:cNvSpPr/>
            <p:nvPr/>
          </p:nvSpPr>
          <p:spPr>
            <a:xfrm>
              <a:off x="2928960" y="353880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fluyen más los factores extern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12 CuadroTexto"/>
            <p:cNvSpPr/>
            <p:nvPr/>
          </p:nvSpPr>
          <p:spPr>
            <a:xfrm>
              <a:off x="3000240" y="445536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Ética- moral dominan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conómicas - tecnológica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13 CuadroTexto"/>
            <p:cNvSpPr/>
            <p:nvPr/>
          </p:nvSpPr>
          <p:spPr>
            <a:xfrm>
              <a:off x="3000240" y="56106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La variable no uso de técnica preci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15 CuadroTexto"/>
            <p:cNvSpPr/>
            <p:nvPr/>
          </p:nvSpPr>
          <p:spPr>
            <a:xfrm>
              <a:off x="2286000" y="71424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ONDICIONES DE U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6 Imagen" descr="pasos.jpg"/>
          <p:cNvPicPr/>
          <p:nvPr/>
        </p:nvPicPr>
        <p:blipFill>
          <a:blip r:embed="rId1"/>
          <a:stretch/>
        </p:blipFill>
        <p:spPr>
          <a:xfrm>
            <a:off x="214200" y="428760"/>
            <a:ext cx="86630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56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10 CuadroTexto"/>
            <p:cNvSpPr/>
            <p:nvPr/>
          </p:nvSpPr>
          <p:spPr>
            <a:xfrm>
              <a:off x="2928960" y="2500200"/>
              <a:ext cx="55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nonima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11 CuadroTexto"/>
            <p:cNvSpPr/>
            <p:nvPr/>
          </p:nvSpPr>
          <p:spPr>
            <a:xfrm>
              <a:off x="2928960" y="36104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terac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12 CuadroTexto"/>
            <p:cNvSpPr/>
            <p:nvPr/>
          </p:nvSpPr>
          <p:spPr>
            <a:xfrm>
              <a:off x="2928960" y="464364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troalimentación controla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13 CuadroTexto"/>
            <p:cNvSpPr/>
            <p:nvPr/>
          </p:nvSpPr>
          <p:spPr>
            <a:xfrm>
              <a:off x="3000240" y="564372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sultados estadístic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15 CuadroTexto"/>
            <p:cNvSpPr/>
            <p:nvPr/>
          </p:nvSpPr>
          <p:spPr>
            <a:xfrm>
              <a:off x="2714760" y="77256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ARACTERISTIC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68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10 CuadroTexto"/>
            <p:cNvSpPr/>
            <p:nvPr/>
          </p:nvSpPr>
          <p:spPr>
            <a:xfrm>
              <a:off x="2857680" y="2312280"/>
              <a:ext cx="52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Información sobre temas  ampl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y  específic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11 CuadroTexto"/>
            <p:cNvSpPr/>
            <p:nvPr/>
          </p:nvSpPr>
          <p:spPr>
            <a:xfrm>
              <a:off x="2928960" y="36104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nálisis es variad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12 CuadroTexto"/>
            <p:cNvSpPr/>
            <p:nvPr/>
          </p:nvSpPr>
          <p:spPr>
            <a:xfrm>
              <a:off x="2928960" y="464364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participación masiv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13 CuadroTexto"/>
            <p:cNvSpPr/>
            <p:nvPr/>
          </p:nvSpPr>
          <p:spPr>
            <a:xfrm>
              <a:off x="2928960" y="568224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limina efectos negativos  cara – ca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15 CuadroTexto"/>
            <p:cNvSpPr/>
            <p:nvPr/>
          </p:nvSpPr>
          <p:spPr>
            <a:xfrm>
              <a:off x="3357720" y="71424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VENTAJ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16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80" name="4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5 Rectángulo redondeado"/>
            <p:cNvSpPr/>
            <p:nvPr/>
          </p:nvSpPr>
          <p:spPr>
            <a:xfrm>
              <a:off x="2714760" y="235728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6 Rectángulo redondeado"/>
            <p:cNvSpPr/>
            <p:nvPr/>
          </p:nvSpPr>
          <p:spPr>
            <a:xfrm>
              <a:off x="2714760" y="34290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7 Rectángulo redondeado"/>
            <p:cNvSpPr/>
            <p:nvPr/>
          </p:nvSpPr>
          <p:spPr>
            <a:xfrm>
              <a:off x="2714760" y="45007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8 Rectángulo redondeado"/>
            <p:cNvSpPr/>
            <p:nvPr/>
          </p:nvSpPr>
          <p:spPr>
            <a:xfrm>
              <a:off x="2714760" y="550080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10 CuadroTexto"/>
            <p:cNvSpPr/>
            <p:nvPr/>
          </p:nvSpPr>
          <p:spPr>
            <a:xfrm>
              <a:off x="2928960" y="250020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levado cos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11 CuadroTexto"/>
            <p:cNvSpPr/>
            <p:nvPr/>
          </p:nvSpPr>
          <p:spPr>
            <a:xfrm>
              <a:off x="2928960" y="357192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Altos tiempos de ejecu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12 CuadroTexto"/>
            <p:cNvSpPr/>
            <p:nvPr/>
          </p:nvSpPr>
          <p:spPr>
            <a:xfrm>
              <a:off x="2928960" y="4500720"/>
              <a:ext cx="564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masiva participación resultados  tenga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significanc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13 CuadroTexto"/>
            <p:cNvSpPr/>
            <p:nvPr/>
          </p:nvSpPr>
          <p:spPr>
            <a:xfrm>
              <a:off x="2928960" y="568224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Sesgo en la elecció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14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15 CuadroTexto"/>
            <p:cNvSpPr/>
            <p:nvPr/>
          </p:nvSpPr>
          <p:spPr>
            <a:xfrm>
              <a:off x="3000240" y="714240"/>
              <a:ext cx="300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DESVENTAJ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6 Imagen" descr="juicio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2 Grupo"/>
          <p:cNvGrpSpPr/>
          <p:nvPr/>
        </p:nvGrpSpPr>
        <p:grpSpPr>
          <a:xfrm>
            <a:off x="571680" y="642960"/>
            <a:ext cx="8143560" cy="5715000"/>
            <a:chOff x="571680" y="642960"/>
            <a:chExt cx="8143560" cy="5715000"/>
          </a:xfrm>
        </p:grpSpPr>
        <p:sp>
          <p:nvSpPr>
            <p:cNvPr id="93" name="1 Rectángulo redondeado"/>
            <p:cNvSpPr/>
            <p:nvPr/>
          </p:nvSpPr>
          <p:spPr>
            <a:xfrm>
              <a:off x="1357200" y="6429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2 Rectángulo redondeado"/>
            <p:cNvSpPr/>
            <p:nvPr/>
          </p:nvSpPr>
          <p:spPr>
            <a:xfrm>
              <a:off x="2714760" y="271476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3 Rectángulo redondeado"/>
            <p:cNvSpPr/>
            <p:nvPr/>
          </p:nvSpPr>
          <p:spPr>
            <a:xfrm>
              <a:off x="2714760" y="378612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4 Rectángulo redondeado"/>
            <p:cNvSpPr/>
            <p:nvPr/>
          </p:nvSpPr>
          <p:spPr>
            <a:xfrm>
              <a:off x="2714760" y="4857840"/>
              <a:ext cx="600048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6 CuadroTexto"/>
            <p:cNvSpPr/>
            <p:nvPr/>
          </p:nvSpPr>
          <p:spPr>
            <a:xfrm>
              <a:off x="2928960" y="2714760"/>
              <a:ext cx="550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Experto no requiere de entrenamiento previo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7 CuadroTexto"/>
            <p:cNvSpPr/>
            <p:nvPr/>
          </p:nvSpPr>
          <p:spPr>
            <a:xfrm>
              <a:off x="2928960" y="3929040"/>
              <a:ext cx="55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menor el tiempo utilizado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8 CuadroTexto"/>
            <p:cNvSpPr/>
            <p:nvPr/>
          </p:nvSpPr>
          <p:spPr>
            <a:xfrm>
              <a:off x="2928960" y="500076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000000"/>
                  </a:solidFill>
                  <a:latin typeface="Calibri"/>
                </a:rPr>
                <a:t>reduce los costos de investig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10 Cerrar llave"/>
            <p:cNvSpPr/>
            <p:nvPr/>
          </p:nvSpPr>
          <p:spPr>
            <a:xfrm>
              <a:off x="571680" y="1857240"/>
              <a:ext cx="1785600" cy="4500720"/>
            </a:xfrm>
            <a:custGeom>
              <a:avLst/>
              <a:gdLst>
                <a:gd name="textAreaLeft" fmla="*/ 0 w 1785600"/>
                <a:gd name="textAreaRight" fmla="*/ 644760 w 1785600"/>
                <a:gd name="textAreaTop" fmla="*/ 46440 h 4500720"/>
                <a:gd name="textAreaBottom" fmla="*/ 4454280 h 45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57"/>
                    <a:pt x="10800" y="714"/>
                  </a:cubicBezTo>
                  <a:lnTo>
                    <a:pt x="10800" y="10086"/>
                  </a:lnTo>
                  <a:cubicBezTo>
                    <a:pt x="10800" y="10443"/>
                    <a:pt x="16200" y="10800"/>
                    <a:pt x="21600" y="10800"/>
                  </a:cubicBezTo>
                  <a:cubicBezTo>
                    <a:pt x="16200" y="10800"/>
                    <a:pt x="10800" y="11157"/>
                    <a:pt x="10800" y="11514"/>
                  </a:cubicBezTo>
                  <a:lnTo>
                    <a:pt x="10800" y="20886"/>
                  </a:lnTo>
                  <a:cubicBezTo>
                    <a:pt x="10800" y="21243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11 CuadroTexto"/>
            <p:cNvSpPr/>
            <p:nvPr/>
          </p:nvSpPr>
          <p:spPr>
            <a:xfrm>
              <a:off x="2714760" y="772560"/>
              <a:ext cx="45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000000"/>
                  </a:solidFill>
                  <a:latin typeface="Calibri"/>
                </a:rPr>
                <a:t>CARACTERISTICA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Rectángulo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2960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6 0.00799 0.011 0.01465 0.015 0.02265 C 0.02 0.01465 0.024 0.00799 0.03 0 C 0.065 -0.04662 0.107 -0.0666 0.124 -0.04529 C 0.14 -0.02265 0.125 0.0333 0.09 0.07993 C 0.084 0.08659 0.079 0.09325 0.073 0.09991 C 0.079 0.10524 0.084 0.1119 0.09 0.11989 C 0.125 0.16651 0.14 0.22246 0.124 0.24377 C 0.107 0.26642 0.065 0.24644 0.03 0.19981 C 0.024 0.19182 0.02 0.18516 0.015 0.17717 C 0.011 0.18516 0.006 0.19182 0 0.19981 C -0.035 0.24644 -0.077 0.26642 -0.094 0.24377 C -0.11 0.22246 -0.095 0.16651 -0.06 0.11989 C -0.054 0.1119 -0.049 0.10524 -0.043 0.09991 C -0.049 0.09325 -0.054 0.08659 -0.06 0.07993 C -0.095 0.0333 -0.11 -0.02265 -0.094 -0.04529 C -0.077 -0.0666 -0.035 -0.04662 0 0 Z">
                                      <p:cBhvr>
                                        <p:cTn id="9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5:49:18Z</dcterms:created>
  <dc:creator>Colossus User</dc:creator>
  <dc:description/>
  <dc:language>en-US</dc:language>
  <cp:lastModifiedBy>Colossus User</cp:lastModifiedBy>
  <dcterms:modified xsi:type="dcterms:W3CDTF">2010-10-03T16:41:16Z</dcterms:modified>
  <cp:revision>6</cp:revision>
  <dc:subject/>
  <dc:title>Diapositiva 1</dc:title>
</cp:coreProperties>
</file>